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EE8-6D48-491A-9B1C-17936FCD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E30-9304-4173-9C19-6243AE34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69C-7415-4179-9FEA-7C30AB7A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04E-D5EA-47D8-A648-39523611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D40-87FA-464B-AD0F-7882D6D6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71C-F667-4015-ACDC-FD586934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446-BA9E-4560-A90F-22CBDB3D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4E9-C675-44A6-82F5-46CC9D79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2D5-9CC1-41E5-A5FC-7A1DB307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616-E15A-49FD-A179-E63B0B09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152-3B72-4614-B0B8-F46DDB54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A89-40BE-4C4B-84FA-809666EB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F457-9194-4BC7-80E7-1A7388ADF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4:39:16Z</dcterms:created>
  <dc:creator>Partners Information Systems</dc:creator>
  <dc:description/>
  <dc:language>en-US</dc:language>
  <cp:lastModifiedBy>Partners Information Systems</cp:lastModifiedBy>
  <dcterms:modified xsi:type="dcterms:W3CDTF">2008-04-29T14:39:38Z</dcterms:modified>
  <cp:revision>1</cp:revision>
  <dc:subject/>
  <dc:title>Slide 1</dc:title>
</cp:coreProperties>
</file>